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746-FE28-4693-9F5B-348EE96E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4AD-124D-476F-8C91-B49F833A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37A2-CCCC-4C88-88F8-60A0A612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F83-0CE2-4AFA-979F-9EF2AE89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F73A-28B8-45ED-A2F2-DBF8382B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E5B7-9908-4CED-B766-C22ED413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4156-C531-43C5-B8D6-6E6E2EE0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4111-AAF0-4DA1-AD02-5E4EED36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FBCC-FEBA-4E89-AFB9-6BA9B767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BDE6-EC3B-483F-ACDA-83501E69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9848-DD84-47C4-BC9B-025951CF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363-6AFC-4DD1-B807-3CB238F4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6E4D-182F-4AD0-A9A3-D2B8FCA9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D9E1-B0D0-4EDA-AE4B-160534CD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56B8-D2E9-40B6-BBD7-69ABA8F8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83BE-1C9E-4E25-901E-C3B9970B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E26F-0F8B-46F3-ADFA-F54F5179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0F1-B0E6-4CC8-B752-F10C2FAE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6D7-B774-4EF5-9ECA-942B5E25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835-0AF4-43AC-83A9-3B8595F7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30D-A56F-493D-A29B-112A398A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796-9B7E-4969-A5BC-D9C6FF3D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B324-F0F5-43AF-B4AF-8D843C94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0B99-8436-4D47-8483-FD804BAB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3060-C9CB-4185-8511-80C9E18910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CF24-81FC-4C71-88FC-BEC57A985B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article Theor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atter is made up of particles, this concept is call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le theory of ma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main ideas of this theory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82760">
              <a:lnSpc>
                <a:spcPct val="10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atter is composed of tiny particles with space betwee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82760">
              <a:lnSpc>
                <a:spcPct val="10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substances (pure substances and mixtures) are made of different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82760">
              <a:lnSpc>
                <a:spcPct val="10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s are in constant random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82760">
              <a:lnSpc>
                <a:spcPct val="10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s move faster as its temperature 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82760">
              <a:lnSpc>
                <a:spcPct val="10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s attract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image008"/>
          <p:cNvPicPr/>
          <p:nvPr/>
        </p:nvPicPr>
        <p:blipFill>
          <a:blip r:embed="rId1"/>
          <a:srcRect l="0" t="4393" r="0" b="0"/>
          <a:stretch/>
        </p:blipFill>
        <p:spPr>
          <a:xfrm>
            <a:off x="4267080" y="609480"/>
            <a:ext cx="4648320" cy="33228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685800" y="3581280"/>
            <a:ext cx="8077320" cy="266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articles are close together, but still vibr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heated, the particles gain energy and begin moving, form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eating continues the particles fly around, no longer held close together creat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3:42:54Z</dcterms:created>
  <dc:creator>C37357</dc:creator>
  <dc:description/>
  <dc:language>en-US</dc:language>
  <cp:lastModifiedBy>Katie</cp:lastModifiedBy>
  <dcterms:modified xsi:type="dcterms:W3CDTF">2014-10-01T19:21:10Z</dcterms:modified>
  <cp:revision>3</cp:revision>
  <dc:subject/>
  <dc:title>Particle Theory</dc:title>
</cp:coreProperties>
</file>